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807-2576-4C95-A7C7-0293AFFB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8D5-B47F-43D7-A417-89A226E1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C06-9368-4249-869A-4AEA1DB3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A32-3523-41D8-AD37-9096D7C8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80D-2F32-49A4-AEBB-D0486152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8D5-6BE3-46D4-A675-E2A448EB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FC6-0339-4DB5-B540-5B4B26A6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069-909E-4E1D-89B7-6FB4736B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D55-C0A4-45B9-8474-895B6C8A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A35-2585-4D67-9A7F-AE5D42B5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F56-9D6E-44F6-BCA5-AD63D427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8FA-32BA-4743-BBC0-0C3A543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1ECE-6D60-4F23-8FB7-256460D789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World progress 1970 - 201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01300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98989"/>
                </a:solidFill>
                <a:latin typeface="Calibri"/>
              </a:rPr>
              <a:t>NEW INTERNATIONALIST  EASIER ENGLISH IELTS / ADVANCED READY LES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87640" y="31896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4280" y="233280"/>
            <a:ext cx="2791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7920"/>
            <a:ext cx="8291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about global issues and comparing simplified and original arti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discussing global issues – practice for the IELTS speaking ex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practice interpreting graphs and writing 150 word summary for IELTS writing exa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 can we measure progr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1699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discuss, then read and make note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eewiki.newint.org/index.php/Measuring_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discuss again, then read the original artic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newint.org/features/2013/03/01/a-measure-of-progress-keynot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now compare the two articles and note down some new 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020000" y="4962600"/>
            <a:ext cx="1485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 graphs on the infographic on the next slide (or on the link below, with zoom feature) – and discuss what they show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4149720"/>
            <a:ext cx="82915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newint.org/features/2013/03/01/world-progress-the-facts-infographic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3360" y="271440"/>
            <a:ext cx="904716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57360"/>
            <a:ext cx="5410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choose one of the sections of the infographic and write (in pairs, or alone) a summary of what it shows – 150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032520" y="155736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12:06:45Z</dcterms:created>
  <dc:creator>Linda</dc:creator>
  <dc:description/>
  <dc:language>en-US</dc:language>
  <cp:lastModifiedBy>Linda Ruas</cp:lastModifiedBy>
  <dcterms:modified xsi:type="dcterms:W3CDTF">2013-08-01T16:00:02Z</dcterms:modified>
  <cp:revision>10</cp:revision>
  <dc:subject/>
  <dc:title>PowerPoint Presentation</dc:title>
</cp:coreProperties>
</file>